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938-B2BE-47FA-8A3F-8FE9D189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ED7-0BF9-4DE3-8152-392AFB5A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E2B-8AA5-45E7-A01F-A3CE789D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7F3-64EA-4CB6-A01E-53B773EE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3A66-D32E-4075-B202-04102DBF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B0BB-1DEC-42F5-BF61-EFC390DC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51BA-75AA-4069-9E5F-C6B184E9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B9B0-44F4-4EE9-B134-D87B2B8A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C506-4826-4556-BB32-53CEDFCE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A5D8-43EA-45A8-8AAE-02E7F91D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0A3E-F61C-4CEC-9388-71290000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7AF-A1B0-4F1B-9493-A44DD9E4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B0A2-9148-4523-93E9-F0A6DB26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579B-7088-4365-97BE-4A444111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C5F8-4C42-4FC5-89D7-FAB1AEB3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0F3C-3315-449B-A5C6-590363EF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C5DD-9D32-48F5-A884-4F4EEF6C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BEE-E6B0-460B-8199-794E1728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A85-13B7-48FC-84A0-12FB0602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05F-5C15-4A9B-8313-6B60C380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050-922A-4D34-8640-CD8E144D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D5A-16A8-4186-B000-355CD6E5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351-DB0B-4E1A-99DF-6EB2EA22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69A-D452-4F33-A3B4-32251DD9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3F04-BB25-46FE-A9B4-9534AE242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81800" y="6172200"/>
            <a:ext cx="25099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B3B7-F624-443E-982F-9175CDF49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81800" y="6172200"/>
            <a:ext cx="250992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1337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 into computers/storabl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ators (P.I.s, students, occasional bioinformat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ivel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pers, few people, £/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ise of the 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133720"/>
            <a:ext cx="7467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 by keyword/gene/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ing/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curation (SVM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194616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600200"/>
            <a:ext cx="3886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's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 Light"/>
              </a:rPr>
              <a:t>pu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way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1676520"/>
            <a:ext cx="3886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673280" cy="1752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4400" y="1752480"/>
            <a:ext cx="7162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/community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ty Assessment of Community Annotation with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23:02:47Z</dcterms:created>
  <dc:creator>Daniel Renfro</dc:creator>
  <dc:description/>
  <dc:language>en-US</dc:language>
  <cp:lastModifiedBy>GMOD / NESCent</cp:lastModifiedBy>
  <cp:lastPrinted>2010-09-24T17:48:19Z</cp:lastPrinted>
  <dcterms:modified xsi:type="dcterms:W3CDTF">2010-09-24T17:48:34Z</dcterms:modified>
  <cp:revision>10</cp:revision>
  <dc:subject/>
  <dc:title>Publications &amp; GMOD</dc:title>
</cp:coreProperties>
</file>